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43E-7F95-48E4-A725-CBA3F03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4C4-24FD-49F8-8E04-ED2A85C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33B-6B83-47C6-A861-F17D8409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A13-3F6F-4EF6-8065-FC59E254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95BC-AF03-4837-8178-F770338C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DB90-A65C-46B7-AE9E-CD92F33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3949-F71E-4D4E-9051-0BCF5B4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40B0-D944-492F-BE4B-0412B4C8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F342-952B-4A11-9824-09F6F12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F1E1-0835-4891-BE74-4C0D9F0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0AC-0B7C-47B5-806E-4349D20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881-6FF1-4B28-90E6-3CBF9C11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9E28-5734-4EB2-B3E9-781018EE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D619-50DE-4DB1-A510-FE05CF2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E3D2-5A33-48D8-927C-372E6E60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66EB-8C41-4EB8-9640-F8BB0264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360D-659E-4203-AB46-F2BCB814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0470-346B-4119-8D92-388B260A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246B-E48A-44BE-9BAE-4477BDFD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62D3-24EC-4FD8-BA82-337F3161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CC84-497B-410D-9D03-C31FB74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11B4-6A4F-49D6-8F9E-5006D6A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DEA-A309-46AA-AC75-8588293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06CF-6051-4568-ACEE-E3355465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9356-2AC7-460D-A892-87EC9CF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1CA5-A22F-42DB-A600-9F77042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A739-3727-480E-85DF-73650E20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7DE5-C589-4E46-AC4B-C279DC65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8331-D318-47C3-A260-4B5CEBBD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F1CB-E81E-4163-BDBB-CD8842F5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F9B6-D9AB-4276-991F-92FFA02C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26AC-B1C9-4DD6-9418-4E45064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C2D7-4503-442D-B503-BE0B48C7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2D5-AA8C-4FC2-863A-72076B35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E242-D0B1-4991-B8D5-1A020864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C075-5EE8-463F-AC56-B54DA07E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94D0-6B39-41FB-B10A-BA6E2023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DD78-A41B-43EB-854E-0982B3D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B99E-F97C-4A70-B597-9A04A24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6840-AB1B-4DD8-9B7C-26DCA10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3047-4D4F-4C0C-8E45-DA36F2A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85DD-5245-4D95-A693-C53F12CA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50E4-5243-4329-BC4C-40B8D4A3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9FF0-2731-498A-80FE-A57A41BB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C1F-7C47-4517-A384-CFF1C67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FA18-F99C-4A0A-8096-832188B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889D-34EE-440F-9ACE-D513CD8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75BF-FAF5-43BA-9A2F-223E6BF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0A1E-2F6B-4BBA-88CA-980F8DF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302B6-FDEF-443F-9799-70C70A60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65FC7-B09B-4228-9B24-530B44E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22C6-2846-420C-B0F1-8F1D196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43D7-9908-4073-AE93-407415D9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E9EF-F87F-47B3-B9A1-62CD149D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8F46F-0D0B-4E1E-8517-961A90B2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CAB-28DF-4672-8246-055C659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4BA8-659C-421A-8E5E-C3D48C2C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0D1C-ABC4-47A9-9739-467B6158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9C2A-BC0F-4BA7-A048-924B475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E252-A66B-428A-9A65-CAEE66CC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3F33-63C7-4A7F-81AD-6D19294A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6E6A-FA35-44D4-B305-01766734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43A43-ED9B-450E-8F2C-0CFB99AC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1263-3B95-493D-B9F4-52D01BE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122F2-3B24-46E8-800A-CA818A2E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F9DB-09DF-4BDD-8945-A58CE2F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8DB-F3A6-4C7D-B2E4-41DA846E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E3308-91A9-4C63-9A51-B765E316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435B-7B9F-4FD8-BE3C-346DCCAA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8269-6E89-4CD3-A957-D89395E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0E2-071F-45C9-9A62-AD43B82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05A-A919-4523-817D-D976BD6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D5FB-DB48-437E-A09E-CD7A03CE44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13C9-2861-4946-A1DA-840205DD68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257F-DD4C-4837-8DB5-1840DE788C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C8E6-AB6C-44BB-B681-7893E9BB6E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030-8D33-4A66-AD2A-8DC1221FB0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1D67-D6B4-4DFC-9C55-73574868C0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96840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70080"/>
            <a:ext cx="354780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354816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360 h 1571760"/>
              <a:gd name="textAreaBottom" fmla="*/ 14994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1"/>
                </a:cubicBezTo>
                <a:lnTo>
                  <a:pt x="10800" y="7609"/>
                </a:lnTo>
                <a:cubicBezTo>
                  <a:pt x="10800" y="9205"/>
                  <a:pt x="5400" y="10800"/>
                  <a:pt x="0" y="10800"/>
                </a:cubicBezTo>
                <a:cubicBezTo>
                  <a:pt x="5400" y="10800"/>
                  <a:pt x="10800" y="12396"/>
                  <a:pt x="10800" y="13991"/>
                </a:cubicBezTo>
                <a:lnTo>
                  <a:pt x="10800" y="18409"/>
                </a:lnTo>
                <a:cubicBezTo>
                  <a:pt x="10800" y="200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user</cp:lastModifiedBy>
  <dcterms:modified xsi:type="dcterms:W3CDTF">2012-03-12T11:23:04Z</dcterms:modified>
  <cp:revision>49</cp:revision>
  <dc:subject/>
  <dc:title>III. UTILIZAREA AVANSATA A INTERNETULUI ÎN PROCESUL DE PREDARE</dc:title>
</cp:coreProperties>
</file>